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875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84000" cy="87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57480" y="-36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04640" y="655200"/>
            <a:ext cx="4375080" cy="32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31168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57480" y="831168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D2FAF6-CDDD-481E-ABF0-689A0724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E37023-F6D3-427D-BC4F-4DFDE9A8464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12EBA1-0784-4929-A3D3-B9DE903233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C22601-9246-4A9F-8CF5-E7E6ED45C9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0291D5-A376-42B2-AAD2-74880EB1818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06E731-61B7-455A-9A42-92F415EC2A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62215A-2B60-40DC-A90E-F5545B46696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22A3B0-E4E7-4344-A346-EF268E7EA8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6E3-C817-4EA1-854B-B2696434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320-2D54-4AC6-86FB-B9756C03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27B-CE0B-4924-973E-9B07FB37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93B-01C4-4EF8-B8E1-9F173C14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1F2B-B36E-4E31-9B8B-B84B8AE8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4313-9AD6-4CCA-A6E4-BFDA9866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C72A-9708-421D-94A4-9AF04B0E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13A0-7F6C-48E3-B21D-FCD9D70F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8A06-40EF-438F-A983-83C05B8D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63C2-039F-4370-AD85-5B68E526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755B-7270-42A8-8652-0E39614C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203-B671-46A2-B99D-AEC5C204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9260-C58A-4DB2-9758-10DDEEE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9A5D-9425-4A8E-B34B-B80C04F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3076-7305-474C-9D2A-C6F5C9E0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5E45-2D26-474E-94FD-610EFC03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02FA-6FBA-477D-B94B-4E07BC52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4B0-DF55-48ED-ABD7-7AAF673B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CB0-8A7E-4D83-9E17-A675E754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E14-1737-4D6E-97D7-5732E9E3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D81-A1D3-4AC4-A209-A9EA7432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5B2-AEAC-4C8A-8A10-64EA62B2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611-7EFB-4EAB-A60D-DB9D3D6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8E9-765B-4278-AA25-975C106C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4405-1D9B-400F-9282-FE0B6210E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7" name="Object 10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Object 9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71BB-DB93-4774-A6C1-49197831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7200" y="1523880"/>
            <a:ext cx="880452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8600" y="160020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Vulnerability Enumeration (CV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latform Enumeration (CP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Remediation Enumeration (CR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Remediation Information (ER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Control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Policy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mediation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16002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6858000" y="294948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86000" y="2514600"/>
            <a:ext cx="44956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286000" y="2754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343400" y="4648320"/>
            <a:ext cx="15238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6324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971800" y="4648320"/>
            <a:ext cx="12952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41148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48120" y="4800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3880" y="4648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61722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V="1">
            <a:off x="25909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39625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248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20040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40080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76201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523880" y="46483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uble Ticketing System (Remed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343400" y="4800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mediation Tool (S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763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895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19051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2286000" y="32004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al Remediation Policy Edi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isk Management Process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5943600" y="4648320"/>
            <a:ext cx="16002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943600" y="47912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Distribution (Patch To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56386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4864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464832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600200" y="2949480"/>
            <a:ext cx="76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781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9588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USutil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2971800" y="58672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add, Dsmod, Dsrm, Dsmove, LDIF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4491000" y="58672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dit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LS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362320" y="152280"/>
            <a:ext cx="4800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mediation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 rot="16200000">
            <a:off x="4191120" y="1371240"/>
            <a:ext cx="152388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3200400" y="3059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76212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6212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762120" y="3581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 Reporting on tas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41148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486400" y="4186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Registry Settings equivalent to using 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4800600" y="4800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File Permissions equivalent to using CACLS.ex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14800" y="5410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Policy Changes equivalent to using secedit.exe command l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762120" y="22860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s CRE, Parameters, and ID Tasking or XML file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5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3733920" y="506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7"/>
          <p:cNvSpPr/>
          <p:nvPr/>
        </p:nvSpPr>
        <p:spPr>
          <a:xfrm>
            <a:off x="3733920" y="40384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3352680" y="5678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1"/>
          <p:cNvSpPr/>
          <p:nvPr/>
        </p:nvSpPr>
        <p:spPr>
          <a:xfrm>
            <a:off x="3352680" y="403848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n 25"/>
          <p:cNvSpPr/>
          <p:nvPr/>
        </p:nvSpPr>
        <p:spPr>
          <a:xfrm>
            <a:off x="3657600" y="2971800"/>
            <a:ext cx="121932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ge Polic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5238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676520" y="17524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76520" y="4724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/ERI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n 23"/>
          <p:cNvSpPr/>
          <p:nvPr/>
        </p:nvSpPr>
        <p:spPr>
          <a:xfrm>
            <a:off x="3657600" y="167652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n 24"/>
          <p:cNvSpPr/>
          <p:nvPr/>
        </p:nvSpPr>
        <p:spPr>
          <a:xfrm>
            <a:off x="3657600" y="4648320"/>
            <a:ext cx="121932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29"/>
          <p:cNvSpPr/>
          <p:nvPr/>
        </p:nvSpPr>
        <p:spPr>
          <a:xfrm rot="16200000">
            <a:off x="2590920" y="1828800"/>
            <a:ext cx="1218960" cy="914400"/>
          </a:xfrm>
          <a:prstGeom prst="downArrow">
            <a:avLst>
              <a:gd name="adj1" fmla="val 78389"/>
              <a:gd name="adj2" fmla="val 2037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New Poli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wn Arrow 30"/>
          <p:cNvSpPr/>
          <p:nvPr/>
        </p:nvSpPr>
        <p:spPr>
          <a:xfrm rot="16200000">
            <a:off x="2629080" y="4762440"/>
            <a:ext cx="1218960" cy="990720"/>
          </a:xfrm>
          <a:prstGeom prst="downArrow">
            <a:avLst>
              <a:gd name="adj1" fmla="val 78611"/>
              <a:gd name="adj2" fmla="val 2000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Known Remedi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xplosion 1 32"/>
          <p:cNvSpPr/>
          <p:nvPr/>
        </p:nvSpPr>
        <p:spPr>
          <a:xfrm>
            <a:off x="5638680" y="1600200"/>
            <a:ext cx="1981440" cy="160020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l Policy Ed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n 33"/>
          <p:cNvSpPr/>
          <p:nvPr/>
        </p:nvSpPr>
        <p:spPr>
          <a:xfrm>
            <a:off x="55627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 &amp; Groups by To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-Right Arrow 35"/>
          <p:cNvSpPr/>
          <p:nvPr/>
        </p:nvSpPr>
        <p:spPr>
          <a:xfrm rot="17211600">
            <a:off x="5673600" y="3171600"/>
            <a:ext cx="1524240" cy="685800"/>
          </a:xfrm>
          <a:prstGeom prst="leftRightArrow">
            <a:avLst>
              <a:gd name="adj1" fmla="val 50000"/>
              <a:gd name="adj2" fmla="val 447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Policies to each tool for  Devices &amp;Device Grou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eft-Right Arrow 36"/>
          <p:cNvSpPr/>
          <p:nvPr/>
        </p:nvSpPr>
        <p:spPr>
          <a:xfrm rot="382800">
            <a:off x="4648320" y="1981080"/>
            <a:ext cx="1447560" cy="609840"/>
          </a:xfrm>
          <a:prstGeom prst="leftRightArrow">
            <a:avLst>
              <a:gd name="adj1" fmla="val 50000"/>
              <a:gd name="adj2" fmla="val 58023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and Sav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-Right Arrow 37"/>
          <p:cNvSpPr/>
          <p:nvPr/>
        </p:nvSpPr>
        <p:spPr>
          <a:xfrm rot="18663600">
            <a:off x="4000320" y="3465360"/>
            <a:ext cx="2714400" cy="438120"/>
          </a:xfrm>
          <a:prstGeom prst="leftRightArrow">
            <a:avLst>
              <a:gd name="adj1" fmla="val 50000"/>
              <a:gd name="adj2" fmla="val 5340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Create, &amp; Store Remedi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371600" y="1828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371600" y="2514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371600" y="4800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5486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6520" y="33526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371600" y="34290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371600" y="4114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2743200" y="3200400"/>
            <a:ext cx="990720" cy="1371600"/>
          </a:xfrm>
          <a:prstGeom prst="leftArrow">
            <a:avLst>
              <a:gd name="adj1" fmla="val 71602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Locally Created Remediations &amp;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-Right Arrow 37"/>
          <p:cNvSpPr/>
          <p:nvPr/>
        </p:nvSpPr>
        <p:spPr>
          <a:xfrm rot="20280000">
            <a:off x="4114440" y="2743200"/>
            <a:ext cx="2176560" cy="438120"/>
          </a:xfrm>
          <a:prstGeom prst="leftRightArrow">
            <a:avLst>
              <a:gd name="adj1" fmla="val 50000"/>
              <a:gd name="adj2" fmla="val 4282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, Edit, Create, &amp; Store Mitigations and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n 33"/>
          <p:cNvSpPr/>
          <p:nvPr/>
        </p:nvSpPr>
        <p:spPr>
          <a:xfrm>
            <a:off x="71629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ool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-Right Arrow 35"/>
          <p:cNvSpPr/>
          <p:nvPr/>
        </p:nvSpPr>
        <p:spPr>
          <a:xfrm rot="3470400">
            <a:off x="6734160" y="3159000"/>
            <a:ext cx="1828800" cy="691920"/>
          </a:xfrm>
          <a:prstGeom prst="leftRightArrow">
            <a:avLst>
              <a:gd name="adj1" fmla="val 50000"/>
              <a:gd name="adj2" fmla="val 5326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dentify which remediations/mitigations each tool can impl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04920" y="16002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ecute Policy-Based Remedi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7238880" y="3581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229600" y="3657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229600" y="4343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238880" y="4800600"/>
            <a:ext cx="1143000" cy="1066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us Par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29600" y="55627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97180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312408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7339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n 26"/>
          <p:cNvSpPr/>
          <p:nvPr/>
        </p:nvSpPr>
        <p:spPr>
          <a:xfrm>
            <a:off x="1828800" y="3886200"/>
            <a:ext cx="220968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n 27"/>
          <p:cNvSpPr/>
          <p:nvPr/>
        </p:nvSpPr>
        <p:spPr>
          <a:xfrm>
            <a:off x="5334120" y="220968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9"/>
          <p:cNvGrpSpPr/>
          <p:nvPr/>
        </p:nvGrpSpPr>
        <p:grpSpPr>
          <a:xfrm>
            <a:off x="1752480" y="4800240"/>
            <a:ext cx="1067040" cy="2057400"/>
            <a:chOff x="1752480" y="4800240"/>
            <a:chExt cx="1067040" cy="2057400"/>
          </a:xfrm>
        </p:grpSpPr>
        <p:sp>
          <p:nvSpPr>
            <p:cNvPr id="191" name="Rectangle 5"/>
            <p:cNvSpPr/>
            <p:nvPr/>
          </p:nvSpPr>
          <p:spPr>
            <a:xfrm rot="16200000">
              <a:off x="1714320" y="5371560"/>
              <a:ext cx="1143000" cy="10670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 rot="16200000">
              <a:off x="17139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16200000">
              <a:off x="240012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ight Arrow 31"/>
            <p:cNvSpPr/>
            <p:nvPr/>
          </p:nvSpPr>
          <p:spPr>
            <a:xfrm rot="16200000">
              <a:off x="2057400" y="4723920"/>
              <a:ext cx="685800" cy="83844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Explosion 1 38"/>
          <p:cNvSpPr/>
          <p:nvPr/>
        </p:nvSpPr>
        <p:spPr>
          <a:xfrm>
            <a:off x="2971800" y="1600200"/>
            <a:ext cx="1600200" cy="129528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ask Buil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-Right Arrow 40"/>
          <p:cNvSpPr/>
          <p:nvPr/>
        </p:nvSpPr>
        <p:spPr>
          <a:xfrm rot="17008200">
            <a:off x="2770200" y="2868120"/>
            <a:ext cx="1600200" cy="739800"/>
          </a:xfrm>
          <a:prstGeom prst="leftRightArrow">
            <a:avLst>
              <a:gd name="adj1" fmla="val 50000"/>
              <a:gd name="adj2" fmla="val 2067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Mitigations, Alternatie Remediations, &amp; Accept Risk based on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n 23"/>
          <p:cNvSpPr/>
          <p:nvPr/>
        </p:nvSpPr>
        <p:spPr>
          <a:xfrm>
            <a:off x="380880" y="266688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n 33"/>
          <p:cNvSpPr/>
          <p:nvPr/>
        </p:nvSpPr>
        <p:spPr>
          <a:xfrm>
            <a:off x="380880" y="1600200"/>
            <a:ext cx="129564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&amp;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-Right Arrow 40"/>
          <p:cNvSpPr/>
          <p:nvPr/>
        </p:nvSpPr>
        <p:spPr>
          <a:xfrm rot="460200">
            <a:off x="1512360" y="1947600"/>
            <a:ext cx="1819440" cy="436320"/>
          </a:xfrm>
          <a:prstGeom prst="leftRightArrow">
            <a:avLst>
              <a:gd name="adj1" fmla="val 50000"/>
              <a:gd name="adj2" fmla="val 39866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Locate devices in groups to determine applicabl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-Right Arrow 40"/>
          <p:cNvSpPr/>
          <p:nvPr/>
        </p:nvSpPr>
        <p:spPr>
          <a:xfrm rot="20306400">
            <a:off x="1512720" y="2643120"/>
            <a:ext cx="1981440" cy="436680"/>
          </a:xfrm>
          <a:prstGeom prst="leftRightArrow">
            <a:avLst>
              <a:gd name="adj1" fmla="val 50000"/>
              <a:gd name="adj2" fmla="val 3985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eive Policies for each device &amp; look up remedi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3048120" y="4800600"/>
            <a:ext cx="990360" cy="685800"/>
          </a:xfrm>
          <a:prstGeom prst="downArrow">
            <a:avLst>
              <a:gd name="adj1" fmla="val 68907"/>
              <a:gd name="adj2" fmla="val 32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s &amp; Mitig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eft-Right Arrow 40"/>
          <p:cNvSpPr/>
          <p:nvPr/>
        </p:nvSpPr>
        <p:spPr>
          <a:xfrm rot="957600">
            <a:off x="4038120" y="2437920"/>
            <a:ext cx="1447920" cy="436680"/>
          </a:xfrm>
          <a:prstGeom prst="leftRightArrow">
            <a:avLst>
              <a:gd name="adj1" fmla="val 50000"/>
              <a:gd name="adj2" fmla="val 3169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mediation Tasks Assigned to Too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xplosion 1 38"/>
          <p:cNvSpPr/>
          <p:nvPr/>
        </p:nvSpPr>
        <p:spPr>
          <a:xfrm>
            <a:off x="5257800" y="3809880"/>
            <a:ext cx="1600200" cy="129564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Workflow Manag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eft-Right Arrow 40"/>
          <p:cNvSpPr/>
          <p:nvPr/>
        </p:nvSpPr>
        <p:spPr>
          <a:xfrm rot="16483800">
            <a:off x="52012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New Taskings Retreiv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eft-Right Arrow 40"/>
          <p:cNvSpPr/>
          <p:nvPr/>
        </p:nvSpPr>
        <p:spPr>
          <a:xfrm rot="20763600">
            <a:off x="6400800" y="3962520"/>
            <a:ext cx="1066680" cy="436320"/>
          </a:xfrm>
          <a:prstGeom prst="leftRightArrow">
            <a:avLst>
              <a:gd name="adj1" fmla="val 50000"/>
              <a:gd name="adj2" fmla="val 2337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Tasks Assigned for Public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eft-Right Arrow 40"/>
          <p:cNvSpPr/>
          <p:nvPr/>
        </p:nvSpPr>
        <p:spPr>
          <a:xfrm rot="1420800">
            <a:off x="5866920" y="4952880"/>
            <a:ext cx="1676520" cy="43668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Provided for Processing &amp; Displa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-Right Arrow 40"/>
          <p:cNvSpPr/>
          <p:nvPr/>
        </p:nvSpPr>
        <p:spPr>
          <a:xfrm rot="16483800">
            <a:off x="56584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Stor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port Remediation and Risk Acceptance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6765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55308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7057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731520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6"/>
          <p:cNvSpPr/>
          <p:nvPr/>
        </p:nvSpPr>
        <p:spPr>
          <a:xfrm>
            <a:off x="5410080" y="3886200"/>
            <a:ext cx="221004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9"/>
          <p:cNvGrpSpPr/>
          <p:nvPr/>
        </p:nvGrpSpPr>
        <p:grpSpPr>
          <a:xfrm>
            <a:off x="5334120" y="4800240"/>
            <a:ext cx="1066680" cy="2057400"/>
            <a:chOff x="5334120" y="4800240"/>
            <a:chExt cx="1066680" cy="2057400"/>
          </a:xfrm>
        </p:grpSpPr>
        <p:sp>
          <p:nvSpPr>
            <p:cNvPr id="215" name="Rectangle 5"/>
            <p:cNvSpPr/>
            <p:nvPr/>
          </p:nvSpPr>
          <p:spPr>
            <a:xfrm rot="16200000">
              <a:off x="5295960" y="5371920"/>
              <a:ext cx="1143000" cy="10666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 rot="16200000">
              <a:off x="529560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 rot="16200000">
              <a:off x="59817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ight Arrow 31"/>
            <p:cNvSpPr/>
            <p:nvPr/>
          </p:nvSpPr>
          <p:spPr>
            <a:xfrm rot="16200000">
              <a:off x="5638680" y="4723920"/>
              <a:ext cx="685800" cy="83808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Can 25"/>
          <p:cNvSpPr/>
          <p:nvPr/>
        </p:nvSpPr>
        <p:spPr>
          <a:xfrm>
            <a:off x="533520" y="4648320"/>
            <a:ext cx="121896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an 24"/>
          <p:cNvSpPr/>
          <p:nvPr/>
        </p:nvSpPr>
        <p:spPr>
          <a:xfrm>
            <a:off x="533520" y="3733920"/>
            <a:ext cx="121896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477120" y="4724280"/>
            <a:ext cx="1295280" cy="762120"/>
          </a:xfrm>
          <a:prstGeom prst="downArrow">
            <a:avLst>
              <a:gd name="adj1" fmla="val 83824"/>
              <a:gd name="adj2" fmla="val 32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 Mitigations/ Exceptions &amp; Remediation Failur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xplosion 1 38"/>
          <p:cNvSpPr/>
          <p:nvPr/>
        </p:nvSpPr>
        <p:spPr>
          <a:xfrm>
            <a:off x="2438280" y="1523880"/>
            <a:ext cx="1752840" cy="236232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tigation and Exception Reporting 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eft-Right Arrow 40"/>
          <p:cNvSpPr/>
          <p:nvPr/>
        </p:nvSpPr>
        <p:spPr>
          <a:xfrm rot="1581000">
            <a:off x="3429000" y="3733920"/>
            <a:ext cx="2562120" cy="436320"/>
          </a:xfrm>
          <a:prstGeom prst="leftRightArrow">
            <a:avLst>
              <a:gd name="adj1" fmla="val 50000"/>
              <a:gd name="adj2" fmla="val 5613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Provide Mitigation and Exception Documentation to Unremediated Non-compliant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eft-Right Arrow 40"/>
          <p:cNvSpPr/>
          <p:nvPr/>
        </p:nvSpPr>
        <p:spPr>
          <a:xfrm rot="19075200">
            <a:off x="914400" y="4038120"/>
            <a:ext cx="2562120" cy="436680"/>
          </a:xfrm>
          <a:prstGeom prst="leftRightArrow">
            <a:avLst>
              <a:gd name="adj1" fmla="val 50000"/>
              <a:gd name="adj2" fmla="val 5609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Exception and Mitigation Detai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n 27"/>
          <p:cNvSpPr/>
          <p:nvPr/>
        </p:nvSpPr>
        <p:spPr>
          <a:xfrm>
            <a:off x="5791320" y="205740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-Right Arrow 40"/>
          <p:cNvSpPr/>
          <p:nvPr/>
        </p:nvSpPr>
        <p:spPr>
          <a:xfrm rot="21008400">
            <a:off x="3728520" y="2284560"/>
            <a:ext cx="2210040" cy="838080"/>
          </a:xfrm>
          <a:prstGeom prst="leftRightArrow">
            <a:avLst>
              <a:gd name="adj1" fmla="val 50000"/>
              <a:gd name="adj2" fmla="val 2521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Completed Mitigation Tasks and Incomplete Remediation Task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3:29:36Z</dcterms:created>
  <dc:creator>.</dc:creator>
  <dc:description/>
  <dc:language>en-US</dc:language>
  <cp:lastModifiedBy>sboczeno</cp:lastModifiedBy>
  <dcterms:modified xsi:type="dcterms:W3CDTF">2010-07-07T14:41:16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">
    <vt:lpwstr>UNCLASSIFIED</vt:lpwstr>
  </property>
  <property fmtid="{D5CDD505-2E9C-101B-9397-08002B2CF9AE}" pid="3" name="Dissemination">
    <vt:lpwstr>FOR OFFICIAL USE ONLY</vt:lpwstr>
  </property>
</Properties>
</file>